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BBEB-C4CE-4760-8F6C-DB9E95F0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9EA-C815-4563-9381-8B79E0A5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D6E5-B022-4ECC-8BFD-9D079C88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2F2E-9F6F-4C47-8336-7F11C17C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05A-C4F7-49CF-9DBD-E5DB48F5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59D-AB6E-447C-AE51-95D31308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17BF-46DA-48E4-9583-3FC482E1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9B6-761C-497E-882D-8F22A7B5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50C-4653-45FC-A607-33414746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36CF-685A-4374-B10F-8A9F627D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78A-A4C6-4699-BCD5-B31EB419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DC0-6B07-466B-80CF-5EC22B95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4B58-5A29-4F8F-B27F-09454982BD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7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ritannic Bold"/>
              </a:rPr>
              <a:t>British 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00960" y="1280160"/>
            <a:ext cx="4245480" cy="4452840"/>
            <a:chOff x="300960" y="1280160"/>
            <a:chExt cx="4245480" cy="4452840"/>
          </a:xfrm>
        </p:grpSpPr>
        <p:sp>
          <p:nvSpPr>
            <p:cNvPr id="115" name=""/>
            <p:cNvSpPr txBox="1"/>
            <p:nvPr/>
          </p:nvSpPr>
          <p:spPr>
            <a:xfrm rot="20844600">
              <a:off x="1115640" y="4581000"/>
              <a:ext cx="3384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Titani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 rot="20920200">
              <a:off x="547560" y="1612800"/>
              <a:ext cx="3672000" cy="2874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5024520" y="1153440"/>
            <a:ext cx="4063320" cy="4228200"/>
            <a:chOff x="5024520" y="1153440"/>
            <a:chExt cx="4063320" cy="4228200"/>
          </a:xfrm>
        </p:grpSpPr>
        <p:pic>
          <p:nvPicPr>
            <p:cNvPr id="118" name="ww1main" descr=""/>
            <p:cNvPicPr/>
            <p:nvPr/>
          </p:nvPicPr>
          <p:blipFill>
            <a:blip r:embed="rId3"/>
            <a:stretch/>
          </p:blipFill>
          <p:spPr>
            <a:xfrm rot="518400">
              <a:off x="5219280" y="1413000"/>
              <a:ext cx="3673440" cy="2873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9" name=""/>
            <p:cNvSpPr txBox="1"/>
            <p:nvPr/>
          </p:nvSpPr>
          <p:spPr>
            <a:xfrm rot="463200">
              <a:off x="5148000" y="4365720"/>
              <a:ext cx="3384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4-191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58000" y="1128600"/>
            <a:ext cx="3393720" cy="5052960"/>
            <a:chOff x="558000" y="1128600"/>
            <a:chExt cx="3393720" cy="5052960"/>
          </a:xfrm>
        </p:grpSpPr>
        <p:sp>
          <p:nvSpPr>
            <p:cNvPr id="124" name=""/>
            <p:cNvSpPr txBox="1"/>
            <p:nvPr/>
          </p:nvSpPr>
          <p:spPr>
            <a:xfrm rot="21228600">
              <a:off x="900000" y="522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39-194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25" name="300px-WW2_TitlePicture_For_Wikipedia_Article" descr=""/>
            <p:cNvPicPr/>
            <p:nvPr/>
          </p:nvPicPr>
          <p:blipFill>
            <a:blip r:embed="rId2"/>
            <a:stretch/>
          </p:blipFill>
          <p:spPr>
            <a:xfrm rot="21227400">
              <a:off x="759960" y="1266840"/>
              <a:ext cx="277020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4777200" y="1185480"/>
            <a:ext cx="3396600" cy="4296960"/>
            <a:chOff x="4777200" y="1185480"/>
            <a:chExt cx="3396600" cy="4296960"/>
          </a:xfrm>
        </p:grpSpPr>
        <p:pic>
          <p:nvPicPr>
            <p:cNvPr id="127" name="yourcountryneedsyou" descr=""/>
            <p:cNvPicPr/>
            <p:nvPr/>
          </p:nvPicPr>
          <p:blipFill>
            <a:blip r:embed="rId3"/>
            <a:stretch/>
          </p:blipFill>
          <p:spPr>
            <a:xfrm rot="440400">
              <a:off x="5292360" y="1341360"/>
              <a:ext cx="2666880" cy="3527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8" name=""/>
            <p:cNvSpPr txBox="1"/>
            <p:nvPr/>
          </p:nvSpPr>
          <p:spPr>
            <a:xfrm rot="418200">
              <a:off x="4787640" y="4941360"/>
              <a:ext cx="30178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195640" y="333360"/>
            <a:ext cx="4968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Modern Britai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1945 - 20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39720" y="1482840"/>
            <a:ext cx="3319920" cy="4650840"/>
            <a:chOff x="639720" y="1482840"/>
            <a:chExt cx="3319920" cy="4650840"/>
          </a:xfrm>
        </p:grpSpPr>
        <p:sp>
          <p:nvSpPr>
            <p:cNvPr id="133" name=""/>
            <p:cNvSpPr txBox="1"/>
            <p:nvPr/>
          </p:nvSpPr>
          <p:spPr>
            <a:xfrm rot="21173400">
              <a:off x="899640" y="5084280"/>
              <a:ext cx="30178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Elizabeth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5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34" name="263831~Queen-Elizabeth-II-Posters" descr=""/>
            <p:cNvPicPr/>
            <p:nvPr/>
          </p:nvPicPr>
          <p:blipFill>
            <a:blip r:embed="rId2"/>
            <a:stretch/>
          </p:blipFill>
          <p:spPr>
            <a:xfrm rot="21190800">
              <a:off x="826920" y="1628280"/>
              <a:ext cx="2648160" cy="331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5204880" y="1213560"/>
            <a:ext cx="3205800" cy="4111560"/>
            <a:chOff x="5204880" y="1213560"/>
            <a:chExt cx="3205800" cy="4111560"/>
          </a:xfrm>
        </p:grpSpPr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 rot="407400">
              <a:off x="5867280" y="1341000"/>
              <a:ext cx="2355840" cy="331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7" name=""/>
            <p:cNvSpPr txBox="1"/>
            <p:nvPr/>
          </p:nvSpPr>
          <p:spPr>
            <a:xfrm rot="385800">
              <a:off x="5219640" y="4723920"/>
              <a:ext cx="30178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Here and now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Now it's tim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for you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o a Timelin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250920" y="3068640"/>
            <a:ext cx="8642160" cy="720720"/>
            <a:chOff x="250920" y="3068640"/>
            <a:chExt cx="8642160" cy="720720"/>
          </a:xfrm>
        </p:grpSpPr>
        <p:sp>
          <p:nvSpPr>
            <p:cNvPr id="142" name=""/>
            <p:cNvSpPr/>
            <p:nvPr/>
          </p:nvSpPr>
          <p:spPr>
            <a:xfrm>
              <a:off x="250920" y="342900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528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748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6836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32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5600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394920" y="2276640"/>
            <a:ext cx="289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804000" y="3716280"/>
            <a:ext cx="43200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27640" y="256536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932360" y="3645000"/>
            <a:ext cx="287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459640" y="227664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059280" y="3716280"/>
            <a:ext cx="863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59640" y="1197000"/>
            <a:ext cx="129708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8244000" y="3716280"/>
            <a:ext cx="730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340000" y="1341360"/>
            <a:ext cx="7128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1640" y="2133720"/>
            <a:ext cx="1429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596360" y="1628640"/>
            <a:ext cx="136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50920" y="1268280"/>
            <a:ext cx="1368360" cy="1932120"/>
            <a:chOff x="250920" y="1268280"/>
            <a:chExt cx="1368360" cy="1932120"/>
          </a:xfrm>
        </p:grpSpPr>
        <p:sp>
          <p:nvSpPr>
            <p:cNvPr id="160" name=""/>
            <p:cNvSpPr txBox="1"/>
            <p:nvPr/>
          </p:nvSpPr>
          <p:spPr>
            <a:xfrm>
              <a:off x="250920" y="1268280"/>
              <a:ext cx="136836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Norman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61" name="Battle_of_Hastings_Double_Take" descr=""/>
            <p:cNvPicPr/>
            <p:nvPr/>
          </p:nvPicPr>
          <p:blipFill>
            <a:blip r:embed="rId2"/>
            <a:srcRect l="0" t="11305" r="0" b="7309"/>
            <a:stretch/>
          </p:blipFill>
          <p:spPr>
            <a:xfrm>
              <a:off x="755640" y="2276640"/>
              <a:ext cx="731880" cy="923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395280" y="189000"/>
            <a:ext cx="2808360" cy="971640"/>
            <a:chOff x="395280" y="189000"/>
            <a:chExt cx="2808360" cy="971640"/>
          </a:xfrm>
        </p:grpSpPr>
        <p:sp>
          <p:nvSpPr>
            <p:cNvPr id="163" name=""/>
            <p:cNvSpPr txBox="1"/>
            <p:nvPr/>
          </p:nvSpPr>
          <p:spPr>
            <a:xfrm>
              <a:off x="1835280" y="26028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Midd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g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64" name="ap12" descr=""/>
            <p:cNvPicPr/>
            <p:nvPr/>
          </p:nvPicPr>
          <p:blipFill>
            <a:blip r:embed="rId3"/>
            <a:stretch/>
          </p:blipFill>
          <p:spPr>
            <a:xfrm>
              <a:off x="395280" y="189000"/>
              <a:ext cx="1328760" cy="97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1042920" y="4508640"/>
            <a:ext cx="2521080" cy="1852560"/>
            <a:chOff x="1042920" y="4508640"/>
            <a:chExt cx="2521080" cy="1852560"/>
          </a:xfrm>
        </p:grpSpPr>
        <p:sp>
          <p:nvSpPr>
            <p:cNvPr id="166" name=""/>
            <p:cNvSpPr txBox="1"/>
            <p:nvPr/>
          </p:nvSpPr>
          <p:spPr>
            <a:xfrm>
              <a:off x="2195640" y="450864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udor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67" name="shakespeare" descr=""/>
            <p:cNvPicPr/>
            <p:nvPr/>
          </p:nvPicPr>
          <p:blipFill>
            <a:blip r:embed="rId4"/>
            <a:stretch/>
          </p:blipFill>
          <p:spPr>
            <a:xfrm>
              <a:off x="1042920" y="4653000"/>
              <a:ext cx="1055880" cy="170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3492360" y="549360"/>
            <a:ext cx="1252800" cy="1512720"/>
            <a:chOff x="3492360" y="549360"/>
            <a:chExt cx="1252800" cy="1512720"/>
          </a:xfrm>
        </p:grpSpPr>
        <p:sp>
          <p:nvSpPr>
            <p:cNvPr id="169" name=""/>
            <p:cNvSpPr txBox="1"/>
            <p:nvPr/>
          </p:nvSpPr>
          <p:spPr>
            <a:xfrm>
              <a:off x="3635280" y="1197000"/>
              <a:ext cx="935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ivi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0" name="sep2_great_fire4" descr=""/>
            <p:cNvPicPr/>
            <p:nvPr/>
          </p:nvPicPr>
          <p:blipFill>
            <a:blip r:embed="rId5"/>
            <a:stretch/>
          </p:blipFill>
          <p:spPr>
            <a:xfrm>
              <a:off x="3492360" y="549360"/>
              <a:ext cx="1252800" cy="592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3851280" y="4437000"/>
            <a:ext cx="1728720" cy="2017800"/>
            <a:chOff x="3851280" y="4437000"/>
            <a:chExt cx="1728720" cy="2017800"/>
          </a:xfrm>
        </p:grpSpPr>
        <p:sp>
          <p:nvSpPr>
            <p:cNvPr id="172" name=""/>
            <p:cNvSpPr txBox="1"/>
            <p:nvPr/>
          </p:nvSpPr>
          <p:spPr>
            <a:xfrm>
              <a:off x="4211640" y="558972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Empire &amp;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ea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3" name="LIMCOM_16647_v1_m56577569830549020" descr=""/>
            <p:cNvPicPr/>
            <p:nvPr/>
          </p:nvPicPr>
          <p:blipFill>
            <a:blip r:embed="rId6"/>
            <a:stretch/>
          </p:blipFill>
          <p:spPr>
            <a:xfrm>
              <a:off x="3851280" y="4437000"/>
              <a:ext cx="1008000" cy="100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5219640" y="1557360"/>
            <a:ext cx="1368360" cy="1589040"/>
            <a:chOff x="5219640" y="1557360"/>
            <a:chExt cx="1368360" cy="1589040"/>
          </a:xfrm>
        </p:grpSpPr>
        <p:sp>
          <p:nvSpPr>
            <p:cNvPr id="175" name=""/>
            <p:cNvSpPr txBox="1"/>
            <p:nvPr/>
          </p:nvSpPr>
          <p:spPr>
            <a:xfrm>
              <a:off x="5219640" y="155736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boli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6" name="abolition3d" descr=""/>
            <p:cNvPicPr/>
            <p:nvPr/>
          </p:nvPicPr>
          <p:blipFill>
            <a:blip r:embed="rId7"/>
            <a:stretch/>
          </p:blipFill>
          <p:spPr>
            <a:xfrm>
              <a:off x="5219640" y="2492280"/>
              <a:ext cx="892080" cy="654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5796000" y="4653000"/>
            <a:ext cx="1368360" cy="1989000"/>
            <a:chOff x="5796000" y="4653000"/>
            <a:chExt cx="1368360" cy="1989000"/>
          </a:xfrm>
        </p:grpSpPr>
        <p:sp>
          <p:nvSpPr>
            <p:cNvPr id="178" name=""/>
            <p:cNvSpPr txBox="1"/>
            <p:nvPr/>
          </p:nvSpPr>
          <p:spPr>
            <a:xfrm>
              <a:off x="5796000" y="465300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Victorian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9" name="scan0003" descr=""/>
            <p:cNvPicPr/>
            <p:nvPr/>
          </p:nvPicPr>
          <p:blipFill>
            <a:blip r:embed="rId8"/>
            <a:srcRect l="0" t="0" r="0" b="3447"/>
            <a:stretch/>
          </p:blipFill>
          <p:spPr>
            <a:xfrm>
              <a:off x="6084720" y="5589720"/>
              <a:ext cx="754200" cy="1052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0" name=""/>
          <p:cNvGrpSpPr/>
          <p:nvPr/>
        </p:nvGrpSpPr>
        <p:grpSpPr>
          <a:xfrm>
            <a:off x="6227640" y="260280"/>
            <a:ext cx="2505240" cy="833400"/>
            <a:chOff x="6227640" y="260280"/>
            <a:chExt cx="2505240" cy="833400"/>
          </a:xfrm>
        </p:grpSpPr>
        <p:sp>
          <p:nvSpPr>
            <p:cNvPr id="181" name=""/>
            <p:cNvSpPr txBox="1"/>
            <p:nvPr/>
          </p:nvSpPr>
          <p:spPr>
            <a:xfrm>
              <a:off x="6227640" y="404640"/>
              <a:ext cx="136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2" name="ww1main" descr=""/>
            <p:cNvPicPr/>
            <p:nvPr/>
          </p:nvPicPr>
          <p:blipFill>
            <a:blip r:embed="rId9"/>
            <a:stretch/>
          </p:blipFill>
          <p:spPr>
            <a:xfrm>
              <a:off x="7667640" y="260280"/>
              <a:ext cx="1065240" cy="83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3" name=""/>
          <p:cNvGrpSpPr/>
          <p:nvPr/>
        </p:nvGrpSpPr>
        <p:grpSpPr>
          <a:xfrm>
            <a:off x="7524720" y="4941720"/>
            <a:ext cx="1368360" cy="1629000"/>
            <a:chOff x="7524720" y="4941720"/>
            <a:chExt cx="1368360" cy="1629000"/>
          </a:xfrm>
        </p:grpSpPr>
        <p:sp>
          <p:nvSpPr>
            <p:cNvPr id="184" name=""/>
            <p:cNvSpPr txBox="1"/>
            <p:nvPr/>
          </p:nvSpPr>
          <p:spPr>
            <a:xfrm>
              <a:off x="7524720" y="4941720"/>
              <a:ext cx="1368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5" name="yourcountryneedsyou" descr=""/>
            <p:cNvPicPr/>
            <p:nvPr/>
          </p:nvPicPr>
          <p:blipFill>
            <a:blip r:embed="rId10"/>
            <a:stretch/>
          </p:blipFill>
          <p:spPr>
            <a:xfrm>
              <a:off x="7885080" y="5589720"/>
              <a:ext cx="743040" cy="981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ecide which pictur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ar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utting where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But for 2007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do your ow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icture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Things that hav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happene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in our past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Norm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1066 - 115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52200" y="1574280"/>
            <a:ext cx="2877480" cy="4081320"/>
            <a:chOff x="952200" y="1574280"/>
            <a:chExt cx="2877480" cy="4081320"/>
          </a:xfrm>
        </p:grpSpPr>
        <p:pic>
          <p:nvPicPr>
            <p:cNvPr id="49" name="Battle_of_Hastings_Double_Take" descr=""/>
            <p:cNvPicPr/>
            <p:nvPr/>
          </p:nvPicPr>
          <p:blipFill>
            <a:blip r:embed="rId2"/>
            <a:srcRect l="0" t="11305" r="0" b="7309"/>
            <a:stretch/>
          </p:blipFill>
          <p:spPr>
            <a:xfrm rot="21180600">
              <a:off x="1116000" y="1700280"/>
              <a:ext cx="224460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0" name=""/>
            <p:cNvSpPr txBox="1"/>
            <p:nvPr/>
          </p:nvSpPr>
          <p:spPr>
            <a:xfrm rot="21120600">
              <a:off x="1332000" y="4801680"/>
              <a:ext cx="2462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Hasting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416120" y="1890360"/>
            <a:ext cx="4253400" cy="3612240"/>
            <a:chOff x="4416120" y="1890360"/>
            <a:chExt cx="4253400" cy="3612240"/>
          </a:xfrm>
        </p:grpSpPr>
        <p:pic>
          <p:nvPicPr>
            <p:cNvPr id="52" name="1066_tapestry_harolds_coronation" descr="Black and white illustration showing Harold's coronation"/>
            <p:cNvPicPr/>
            <p:nvPr/>
          </p:nvPicPr>
          <p:blipFill>
            <a:blip r:embed="rId3"/>
            <a:stretch/>
          </p:blipFill>
          <p:spPr>
            <a:xfrm rot="755400">
              <a:off x="4716000" y="2276280"/>
              <a:ext cx="3772080" cy="2079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3" name=""/>
            <p:cNvSpPr txBox="1"/>
            <p:nvPr/>
          </p:nvSpPr>
          <p:spPr>
            <a:xfrm rot="789000">
              <a:off x="4433400" y="4498560"/>
              <a:ext cx="374184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yeux Tapes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7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Middle Ag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1154 - 148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95640" y="1459080"/>
            <a:ext cx="4217760" cy="4155840"/>
            <a:chOff x="395640" y="1459080"/>
            <a:chExt cx="4217760" cy="4155840"/>
          </a:xfrm>
        </p:grpSpPr>
        <p:pic>
          <p:nvPicPr>
            <p:cNvPr id="59" name="ap12" descr=""/>
            <p:cNvPicPr/>
            <p:nvPr/>
          </p:nvPicPr>
          <p:blipFill>
            <a:blip r:embed="rId3"/>
            <a:stretch/>
          </p:blipFill>
          <p:spPr>
            <a:xfrm rot="20986200">
              <a:off x="611280" y="1773000"/>
              <a:ext cx="3786120" cy="2768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0" name=""/>
            <p:cNvSpPr txBox="1"/>
            <p:nvPr/>
          </p:nvSpPr>
          <p:spPr>
            <a:xfrm rot="21057000">
              <a:off x="1641240" y="4792680"/>
              <a:ext cx="2232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Black Dea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34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414760" y="1409760"/>
            <a:ext cx="3087720" cy="4036680"/>
            <a:chOff x="5414760" y="1409760"/>
            <a:chExt cx="3087720" cy="4036680"/>
          </a:xfrm>
        </p:grpSpPr>
        <p:pic>
          <p:nvPicPr>
            <p:cNvPr id="62" name="Henry%20Gilbert%20-%20Robin%20Hood" descr=""/>
            <p:cNvPicPr/>
            <p:nvPr/>
          </p:nvPicPr>
          <p:blipFill>
            <a:blip r:embed="rId4"/>
            <a:srcRect l="0" t="11282" r="0" b="0"/>
            <a:stretch/>
          </p:blipFill>
          <p:spPr>
            <a:xfrm rot="730800">
              <a:off x="5796000" y="1628640"/>
              <a:ext cx="2406600" cy="309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3" name=""/>
            <p:cNvSpPr txBox="1"/>
            <p:nvPr/>
          </p:nvSpPr>
          <p:spPr>
            <a:xfrm rot="685800">
              <a:off x="5435280" y="4797360"/>
              <a:ext cx="223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Robin Hood 12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Tudo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1485 - 160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760" y="1176120"/>
            <a:ext cx="3637440" cy="5273640"/>
            <a:chOff x="464760" y="1176120"/>
            <a:chExt cx="3637440" cy="5273640"/>
          </a:xfrm>
        </p:grpSpPr>
        <p:pic>
          <p:nvPicPr>
            <p:cNvPr id="68" name="shakespeare" descr=""/>
            <p:cNvPicPr/>
            <p:nvPr/>
          </p:nvPicPr>
          <p:blipFill>
            <a:blip r:embed="rId2"/>
            <a:stretch/>
          </p:blipFill>
          <p:spPr>
            <a:xfrm rot="21067800">
              <a:off x="755280" y="1341000"/>
              <a:ext cx="2448000" cy="396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9" name=""/>
            <p:cNvSpPr txBox="1"/>
            <p:nvPr/>
          </p:nvSpPr>
          <p:spPr>
            <a:xfrm rot="21105000">
              <a:off x="1042920" y="544500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illiam Shakespea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56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713120" y="1242000"/>
            <a:ext cx="3851280" cy="4347000"/>
            <a:chOff x="4713120" y="1242000"/>
            <a:chExt cx="3851280" cy="4347000"/>
          </a:xfrm>
        </p:grpSpPr>
        <p:pic>
          <p:nvPicPr>
            <p:cNvPr id="71" name="columbus" descr=""/>
            <p:cNvPicPr/>
            <p:nvPr/>
          </p:nvPicPr>
          <p:blipFill>
            <a:blip r:embed="rId3"/>
            <a:stretch/>
          </p:blipFill>
          <p:spPr>
            <a:xfrm rot="434400">
              <a:off x="5435640" y="1412640"/>
              <a:ext cx="2927160" cy="338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2" name=""/>
            <p:cNvSpPr txBox="1"/>
            <p:nvPr/>
          </p:nvSpPr>
          <p:spPr>
            <a:xfrm rot="407400">
              <a:off x="4730400" y="4854240"/>
              <a:ext cx="367200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hristopher Columbus 149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Civil Wa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1603 - 171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86840" y="1528200"/>
            <a:ext cx="3853800" cy="4740120"/>
            <a:chOff x="186840" y="1528200"/>
            <a:chExt cx="3853800" cy="4740120"/>
          </a:xfrm>
        </p:grpSpPr>
        <p:sp>
          <p:nvSpPr>
            <p:cNvPr id="78" name=""/>
            <p:cNvSpPr txBox="1"/>
            <p:nvPr/>
          </p:nvSpPr>
          <p:spPr>
            <a:xfrm rot="20664000">
              <a:off x="971640" y="508464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unpowder Plo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79" name="guyfawkes" descr=""/>
            <p:cNvPicPr/>
            <p:nvPr/>
          </p:nvPicPr>
          <p:blipFill>
            <a:blip r:embed="rId3"/>
            <a:stretch/>
          </p:blipFill>
          <p:spPr>
            <a:xfrm rot="20674200">
              <a:off x="555480" y="1822320"/>
              <a:ext cx="2633760" cy="3129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80" name=""/>
          <p:cNvGrpSpPr/>
          <p:nvPr/>
        </p:nvGrpSpPr>
        <p:grpSpPr>
          <a:xfrm>
            <a:off x="3870360" y="1330200"/>
            <a:ext cx="4930920" cy="3701880"/>
            <a:chOff x="3870360" y="1330200"/>
            <a:chExt cx="4930920" cy="3701880"/>
          </a:xfrm>
        </p:grpSpPr>
        <p:pic>
          <p:nvPicPr>
            <p:cNvPr id="81" name="sep2_great_fire4" descr=""/>
            <p:cNvPicPr/>
            <p:nvPr/>
          </p:nvPicPr>
          <p:blipFill>
            <a:blip r:embed="rId4"/>
            <a:stretch/>
          </p:blipFill>
          <p:spPr>
            <a:xfrm rot="454200">
              <a:off x="3995640" y="1628640"/>
              <a:ext cx="4680000" cy="2214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2" name=""/>
            <p:cNvSpPr txBox="1"/>
            <p:nvPr/>
          </p:nvSpPr>
          <p:spPr>
            <a:xfrm rot="440400">
              <a:off x="4427280" y="4008600"/>
              <a:ext cx="367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reat Fire of Lond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692360" y="333360"/>
            <a:ext cx="5832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Empire &amp; Sea Pow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1714 - 183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24720" y="1339560"/>
            <a:ext cx="4146480" cy="4463280"/>
            <a:chOff x="324720" y="1339560"/>
            <a:chExt cx="4146480" cy="4463280"/>
          </a:xfrm>
        </p:grpSpPr>
        <p:sp>
          <p:nvSpPr>
            <p:cNvPr id="88" name=""/>
            <p:cNvSpPr txBox="1"/>
            <p:nvPr/>
          </p:nvSpPr>
          <p:spPr>
            <a:xfrm rot="20926200">
              <a:off x="1187280" y="472392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aptain Co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7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89" name="i_nsw_72_1770_poster" descr="Captain Cook proclaimed the eastern portion of Australia a British possession"/>
            <p:cNvPicPr/>
            <p:nvPr/>
          </p:nvPicPr>
          <p:blipFill>
            <a:blip r:embed="rId3"/>
            <a:stretch/>
          </p:blipFill>
          <p:spPr>
            <a:xfrm rot="20943600">
              <a:off x="561960" y="1662120"/>
              <a:ext cx="3672000" cy="2852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0" name=""/>
          <p:cNvGrpSpPr/>
          <p:nvPr/>
        </p:nvGrpSpPr>
        <p:grpSpPr>
          <a:xfrm>
            <a:off x="5545080" y="1423440"/>
            <a:ext cx="3087360" cy="3611880"/>
            <a:chOff x="5545080" y="1423440"/>
            <a:chExt cx="3087360" cy="3611880"/>
          </a:xfrm>
        </p:grpSpPr>
        <p:pic>
          <p:nvPicPr>
            <p:cNvPr id="91" name="LIMCOM_16647_v1_m56577569830549020" descr=""/>
            <p:cNvPicPr/>
            <p:nvPr/>
          </p:nvPicPr>
          <p:blipFill>
            <a:blip r:embed="rId4"/>
            <a:stretch/>
          </p:blipFill>
          <p:spPr>
            <a:xfrm rot="413400">
              <a:off x="6084720" y="1557360"/>
              <a:ext cx="237672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92" name=""/>
            <p:cNvSpPr txBox="1"/>
            <p:nvPr/>
          </p:nvSpPr>
          <p:spPr>
            <a:xfrm rot="385200">
              <a:off x="5579640" y="407628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Trafalg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Abolit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04000" y="5734080"/>
            <a:ext cx="19065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18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51080" y="1919520"/>
            <a:ext cx="3579840" cy="3953880"/>
            <a:chOff x="451080" y="1919520"/>
            <a:chExt cx="3579840" cy="3953880"/>
          </a:xfrm>
        </p:grpSpPr>
        <p:sp>
          <p:nvSpPr>
            <p:cNvPr id="97" name=""/>
            <p:cNvSpPr txBox="1"/>
            <p:nvPr/>
          </p:nvSpPr>
          <p:spPr>
            <a:xfrm rot="21105000">
              <a:off x="971640" y="486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lavery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98" name="slavery" descr=""/>
            <p:cNvPicPr/>
            <p:nvPr/>
          </p:nvPicPr>
          <p:blipFill>
            <a:blip r:embed="rId2"/>
            <a:stretch/>
          </p:blipFill>
          <p:spPr>
            <a:xfrm rot="21117600">
              <a:off x="610920" y="2133720"/>
              <a:ext cx="3240000" cy="2517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4772520" y="1704240"/>
            <a:ext cx="3787200" cy="3482640"/>
            <a:chOff x="4772520" y="1704240"/>
            <a:chExt cx="3787200" cy="3482640"/>
          </a:xfrm>
        </p:grpSpPr>
        <p:pic>
          <p:nvPicPr>
            <p:cNvPr id="100" name="abolition3d" descr=""/>
            <p:cNvPicPr/>
            <p:nvPr/>
          </p:nvPicPr>
          <p:blipFill>
            <a:blip r:embed="rId3"/>
            <a:stretch/>
          </p:blipFill>
          <p:spPr>
            <a:xfrm rot="308400">
              <a:off x="5219640" y="1844280"/>
              <a:ext cx="324000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01" name=""/>
            <p:cNvSpPr txBox="1"/>
            <p:nvPr/>
          </p:nvSpPr>
          <p:spPr>
            <a:xfrm rot="334800">
              <a:off x="4794120" y="4392720"/>
              <a:ext cx="360072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end of Slavery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0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Victori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1837 - 190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44760" y="1358640"/>
            <a:ext cx="3283200" cy="4667400"/>
            <a:chOff x="644760" y="1358640"/>
            <a:chExt cx="3283200" cy="4667400"/>
          </a:xfrm>
        </p:grpSpPr>
        <p:sp>
          <p:nvSpPr>
            <p:cNvPr id="106" name=""/>
            <p:cNvSpPr txBox="1"/>
            <p:nvPr/>
          </p:nvSpPr>
          <p:spPr>
            <a:xfrm rot="21256200">
              <a:off x="888480" y="5300280"/>
              <a:ext cx="301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Victor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07" name="scan0003" descr=""/>
            <p:cNvPicPr/>
            <p:nvPr/>
          </p:nvPicPr>
          <p:blipFill>
            <a:blip r:embed="rId2"/>
            <a:srcRect l="0" t="0" r="0" b="3447"/>
            <a:stretch/>
          </p:blipFill>
          <p:spPr>
            <a:xfrm rot="21245400">
              <a:off x="826560" y="1483920"/>
              <a:ext cx="2630520" cy="3673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4620240" y="1488240"/>
            <a:ext cx="3799080" cy="3758760"/>
            <a:chOff x="4620240" y="1488240"/>
            <a:chExt cx="3799080" cy="3758760"/>
          </a:xfrm>
        </p:grpSpPr>
        <p:pic>
          <p:nvPicPr>
            <p:cNvPr id="109" name="T0829E00" descr=""/>
            <p:cNvPicPr/>
            <p:nvPr/>
          </p:nvPicPr>
          <p:blipFill>
            <a:blip r:embed="rId3"/>
            <a:stretch/>
          </p:blipFill>
          <p:spPr>
            <a:xfrm rot="517800">
              <a:off x="5076360" y="1711440"/>
              <a:ext cx="3168720" cy="255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0" name=""/>
            <p:cNvSpPr txBox="1"/>
            <p:nvPr/>
          </p:nvSpPr>
          <p:spPr>
            <a:xfrm rot="471600">
              <a:off x="4643280" y="4437000"/>
              <a:ext cx="34578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Industrial Revolu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18:17Z</dcterms:created>
  <dc:creator>Julie</dc:creator>
  <dc:description/>
  <dc:language>en-US</dc:language>
  <cp:lastModifiedBy> </cp:lastModifiedBy>
  <dcterms:modified xsi:type="dcterms:W3CDTF">2008-12-14T14:22:57Z</dcterms:modified>
  <cp:revision>41</cp:revision>
  <dc:subject/>
  <dc:title>British History</dc:title>
</cp:coreProperties>
</file>